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6C5E1-56F6-427A-A316-1D87A82A86F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1BA6E-210F-43C5-9312-2F98B443C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43080" y="685800"/>
            <a:ext cx="257184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7233C-ED87-43C2-A3B4-9F5DD42E8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46239-631F-4CAD-8E2E-5F2178511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DE3A-9679-4C05-B556-9FEFA82DF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6D0D8-D639-4364-9C33-4983F0357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3328D-4750-4609-BFC1-E365A6D2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D2FBD-0567-4776-9688-7F1FF2B04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35F0-DAB4-4D1F-BBEE-E8F29D0B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11593-FB9B-4123-BD5B-5B094BC9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B6C09-2C71-43F7-B4E8-7017BDCC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AF8B-EE75-4D2E-99A8-41AA4F463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B445-39B8-47FE-B56B-F80F4A7D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FB49-2D8A-44F1-8B94-2DA03351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8659-717F-44ED-8AA9-E037DE43A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6E419-53AA-4A23-BE53-A1F40DF963C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37957-E2B6-42F7-A21B-2D8C5A7BD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TextBox 4"/>
          <p:cNvSpPr/>
          <p:nvPr/>
        </p:nvSpPr>
        <p:spPr>
          <a:xfrm>
            <a:off x="7200" y="2211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igure 2</a:t>
            </a:r>
            <a:endParaRPr b="0" lang="en-US" sz="1800" spc="-1" strike="noStrike">
              <a:solidFill>
                <a:srgbClr val="000000"/>
              </a:solidFill>
              <a:latin typeface="Arial"/>
            </a:endParaRPr>
          </a:p>
        </p:txBody>
      </p:sp>
      <p:sp>
        <p:nvSpPr>
          <p:cNvPr id="51"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5"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6"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7"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9"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9:20:00Z</dcterms:created>
  <dc:creator>David Barkan</dc:creator>
  <dc:description/>
  <dc:language>en-US</dc:language>
  <cp:lastModifiedBy>David Barkan</cp:lastModifiedBy>
  <cp:lastPrinted>2009-09-30T02:40:58Z</cp:lastPrinted>
  <dcterms:modified xsi:type="dcterms:W3CDTF">2010-01-29T01:51:32Z</dcterms:modified>
  <cp:revision>49</cp:revision>
  <dc:subject/>
  <dc:title>Slide 1</dc:title>
</cp:coreProperties>
</file>